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C90C-1541-4E01-BBE8-B0212820D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371600" y="1143000"/>
            <a:ext cx="4114800" cy="3086280"/>
          </a:xfrm>
          <a:prstGeom prst="rect">
            <a:avLst/>
          </a:prstGeom>
          <a:ln w="0">
            <a:noFill/>
          </a:ln>
        </p:spPr>
      </p:sp>
      <p:sp>
        <p:nvSpPr>
          <p:cNvPr id="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6"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D067-4A29-49E2-BA7B-6FA941D127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744A2-95A2-4AF3-AFE1-7B9209C91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DC55-B8BA-420A-B939-BD8AF3E3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91DDB-5B3D-4910-B242-386F3A1AA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25FF3-1C5B-4C13-942D-2C50BFD34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A8862-C183-42B4-8BF0-70F6F8BD4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AE23-A968-407F-ABD5-E09BB928D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2A11F-B6EF-4247-91E8-C259245BB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EB00E-FC20-4250-BF69-6C79A392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BD23-1C95-4973-8E7A-6E27FD41E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935DA-7503-4317-9255-0D202D9D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245C-B0F9-4129-BE61-AA6A1EA7F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FEF1-A386-4F4D-9F8C-D244CF8FE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B580-731A-40EC-814F-DCF1FD2FA3B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8920" y="1052280"/>
            <a:ext cx="87123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Calibri"/>
                <a:ea typeface="Calibri"/>
              </a:rPr>
              <a:t>EQUIPE DE MAÎTRISE D’OEUVRE ………..</a:t>
            </a:r>
            <a:endParaRPr b="0" lang="en-US" sz="2400" spc="-1" strike="noStrike">
              <a:solidFill>
                <a:srgbClr val="000000"/>
              </a:solidFill>
              <a:latin typeface="Arial"/>
            </a:endParaRPr>
          </a:p>
        </p:txBody>
      </p:sp>
      <p:sp>
        <p:nvSpPr>
          <p:cNvPr id="49" name="PlaceHolder 2"/>
          <p:cNvSpPr>
            <a:spLocks noGrp="1"/>
          </p:cNvSpPr>
          <p:nvPr>
            <p:ph type="subTitle"/>
          </p:nvPr>
        </p:nvSpPr>
        <p:spPr>
          <a:xfrm>
            <a:off x="252360" y="2708280"/>
            <a:ext cx="8639280" cy="19447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Désignation d’une équipe de maîtrise d’œuvre pour la </a:t>
            </a:r>
            <a:r>
              <a:rPr b="0" lang="fr-FR" sz="2400" spc="-1" strike="noStrike">
                <a:solidFill>
                  <a:srgbClr val="000000"/>
                </a:solidFill>
                <a:latin typeface="Calibri"/>
                <a:ea typeface="Times New Roman"/>
              </a:rPr>
              <a:t>création de chambres EVAT et de bureaux- Caserne Marey Monge à Auxonne (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376200" y="331920"/>
            <a:ext cx="8443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INDIQUER L’INTITULE DE L’OPERATION (nature des travaux et lieu de réalis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COU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ANNEE DE REALISATION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 </a:t>
            </a:r>
            <a:r>
              <a:rPr b="0" i="1" lang="fr-FR" sz="1600" spc="-1" strike="noStrike">
                <a:solidFill>
                  <a:srgbClr val="000000"/>
                </a:solidFill>
                <a:latin typeface="Calibri"/>
                <a:ea typeface="Calibri"/>
              </a:rPr>
              <a:t>(rappel : se limiter à 2 diapositives par référence ; chaque diapositive ne comportera qu’une ph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ea typeface="Calibri"/>
              </a:rPr>
              <a:t>Afin de ne pas alourdir la lecture des éléments photographiques, il est préférable que le descriptif technique et architectural de la référence choisie soit présenté dans la déclaration du candidat ou dans tout autre document rédigé par le candidat)</a:t>
            </a:r>
            <a:endParaRPr b="0" lang="en-US" sz="1600" spc="-1" strike="noStrike">
              <a:solidFill>
                <a:srgbClr val="000000"/>
              </a:solidFill>
              <a:latin typeface="Arial"/>
            </a:endParaRPr>
          </a:p>
        </p:txBody>
      </p:sp>
      <p:pic>
        <p:nvPicPr>
          <p:cNvPr id="51" name="Image 2" descr="Une image contenant herbe, ciel, extérieur, champ&#10;&#10;Description générée automatiquement"/>
          <p:cNvPicPr/>
          <p:nvPr/>
        </p:nvPicPr>
        <p:blipFill>
          <a:blip r:embed="rId1"/>
          <a:stretch/>
        </p:blipFill>
        <p:spPr>
          <a:xfrm>
            <a:off x="542880" y="2276640"/>
            <a:ext cx="805824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6"/>
          <p:cNvSpPr/>
          <p:nvPr/>
        </p:nvSpPr>
        <p:spPr>
          <a:xfrm>
            <a:off x="376200" y="331920"/>
            <a:ext cx="8443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INDIQUER L’INTITULE DE L’OPERATION (nature des travaux et lieu de réalis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COU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ANNEE DE REALISATION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ea typeface="Calibri"/>
              </a:rPr>
              <a:t>(rappel : se limiter à 2 diapositives par référence ; chaque diapositive ne comportera qu’une ph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libri"/>
                <a:ea typeface="Calibri"/>
              </a:rPr>
              <a:t>Afin de ne pas alourdir la lecture des éléments photographiques, il est préférable que le descriptif technique et architectural de la référence choisie soit présenté dans la déclaration du candidat ou dans tout autre document rédigé par le candidat)</a:t>
            </a:r>
            <a:r>
              <a:rPr b="0" i="1" lang="fr-FR" sz="1400" spc="-1" strike="noStrike">
                <a:solidFill>
                  <a:srgbClr val="000000"/>
                </a:solidFill>
                <a:latin typeface="Arial"/>
              </a:rPr>
              <a:t> </a:t>
            </a:r>
            <a:endParaRPr b="0" lang="en-US" sz="1400" spc="-1" strike="noStrike">
              <a:solidFill>
                <a:srgbClr val="000000"/>
              </a:solidFill>
              <a:latin typeface="Arial"/>
            </a:endParaRPr>
          </a:p>
        </p:txBody>
      </p:sp>
      <p:pic>
        <p:nvPicPr>
          <p:cNvPr id="53" name="Image 2" descr="Une image contenant arbre, herbe, extérieur, vert&#10;&#10;Description générée automatiquement"/>
          <p:cNvPicPr/>
          <p:nvPr/>
        </p:nvPicPr>
        <p:blipFill>
          <a:blip r:embed="rId1"/>
          <a:stretch/>
        </p:blipFill>
        <p:spPr>
          <a:xfrm>
            <a:off x="466560" y="2205000"/>
            <a:ext cx="8210880" cy="410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07:29:46Z</dcterms:created>
  <dc:creator>boisselierm</dc:creator>
  <dc:description/>
  <dc:language>en-US</dc:language>
  <cp:lastModifiedBy>b colas</cp:lastModifiedBy>
  <dcterms:modified xsi:type="dcterms:W3CDTF">2025-02-19T07:31:07Z</dcterms:modified>
  <cp:revision>22</cp:revision>
  <dc:subject/>
  <dc:title>CABINET ………..</dc:title>
</cp:coreProperties>
</file>